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F1E-0781-419E-A6E8-10602ACD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BD1-638F-4F91-9D32-4495807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5F3-D094-4862-83E0-476BE910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FD9-2887-42BB-8738-29E7B2AC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31-3860-47F4-B63C-D3D667D4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981-7AD5-4338-9592-4976E62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30D-D018-4F4F-B251-1A387DF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FB2-0CA7-4067-B4FD-314E67C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4EC-EC9A-487A-9725-DCFF2886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765-C0DC-44E6-81AA-769875D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3F4-727E-4271-A59E-E768113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312-4712-4BB8-BE62-B6C1CFD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C9F-7616-4E2D-80C5-9CEAA82B0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Vokabe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2860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s Wetter von heute – today’s wea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 – degr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öchste Temperatur – high (temperatur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drigste  Temperatur - low (temperatur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 Nachrichten – the news  (used with a singular ver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itzer (m) –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itzerin (f) -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rzlich willkommen bei – welcome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uschauer – wat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ebe Zuschauer – literally dear wat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ung –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 - chann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638680" y="835200"/>
            <a:ext cx="34290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nn gefunden – if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fonieren Sie –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icken Sie eine Email a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= b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ing News – Sonderme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hlendes Tier:  missing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us –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about temperamen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e ist er/sie/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in or i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m of “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m of “to ha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ominative der or ein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ccusative der or ein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7:21:41Z</dcterms:created>
  <dc:creator>temp</dc:creator>
  <dc:description/>
  <dc:language>en-US</dc:language>
  <cp:lastModifiedBy>tmsadmin</cp:lastModifiedBy>
  <dcterms:modified xsi:type="dcterms:W3CDTF">2013-10-30T17:36:23Z</dcterms:modified>
  <cp:revision>4</cp:revision>
  <dc:subject/>
  <dc:title>Extra Vokabeln</dc:title>
</cp:coreProperties>
</file>